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8BBD-94B3-4AF3-833D-EF13AF866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69D9-10D6-44E7-B988-C8BA02999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2A3-4658-4FC8-B2F6-08DB9689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0BC-ED74-469F-A2F6-5988E07D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ABC-8A3A-42E0-9BC6-77B7E7B3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FCB-0626-4523-B1EB-6A6BB677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448-3F6C-419E-B07D-2184F7F6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434-3574-401F-8E6B-91202F25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C0D-8C5A-469E-ABB5-94463086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986-AFF6-49DA-BFC1-8DE4CE99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751-A41E-46B2-9177-B14737AB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A24-1C78-4BF0-B36B-07B60D9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7D3-6D6D-4C9E-8286-AC077147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91E-B0ED-4B32-A19D-9F3A466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F8AE-5C6D-480A-99D0-CADB666A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228600" y="1295280"/>
            <a:ext cx="861048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todos?  Yo estoy muy feliz porque el día esta muy bonito ¿ Qué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4864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y penosa también. Mi familia es muy importante para 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938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ver una película de acción por que yo estoy muy cansa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ál película quieres ir a v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bien y si el día esta muy bonito 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146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no tengo mascotas pero mi abuela tiene un gato. Mis abuelos son muy divertidos y ellos a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 los animales y yo me gustan los gatos.¿ Y tu tienes herman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41560" y="6095880"/>
            <a:ext cx="64116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5791320"/>
            <a:ext cx="51055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no tengo hermanos soy hija única. Yo estoy triste por qué soy hija única. Pero soy feliz por qu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mi amiga y por qué amo a mis padres y por qué ellos me aman también. ¿ Tus papas está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rabajando?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econds ago            Octubre 22, d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Si ustedes tienen mascotas cuántas mascotas tienen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Photo on 2011-10-21 at 13.53 #2.jpg"/>
          <p:cNvPicPr/>
          <p:nvPr/>
        </p:nvPicPr>
        <p:blipFill>
          <a:blip r:embed="rId1"/>
          <a:stretch/>
        </p:blipFill>
        <p:spPr>
          <a:xfrm>
            <a:off x="438120" y="457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7"/>
          <p:cNvSpPr/>
          <p:nvPr/>
        </p:nvSpPr>
        <p:spPr>
          <a:xfrm>
            <a:off x="1371600" y="10666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1371600" y="380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s bien porque Ya me voy Adió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1371600" y="24382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1371600" y="1752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1:36Z</dcterms:created>
  <dc:creator>FriscoISD</dc:creator>
  <dc:description/>
  <dc:language>en-US</dc:language>
  <cp:lastModifiedBy>User</cp:lastModifiedBy>
  <dcterms:modified xsi:type="dcterms:W3CDTF">2013-01-02T14:58:52Z</dcterms:modified>
  <cp:revision>111</cp:revision>
  <dc:subject/>
  <dc:title>Profile</dc:title>
</cp:coreProperties>
</file>